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232F-C6C4-43FD-8E42-9E7E4E45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F09C-03AF-4035-8CB4-DB0ED9E7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BE86-1AA9-4604-94CD-0CBD38A2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68A22-10C5-4982-9C85-461E9B44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7FC4-DB13-494A-ABEB-85C9032E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40AB-CECC-4CE0-91BE-E5B323F4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8D9E-2EEE-475C-90FB-74070904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C2D7-A607-40F3-A466-881882E4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9BFB-FCD1-4EB5-87AC-A8CD74E4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9A56-FD2D-4A0E-AB2B-71BD3C61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31B2-FB44-4B17-9759-FC8843E1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8CC5-11AB-4AD2-B63B-9F032C6B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A506-C0E3-4C5D-A1E6-4C8EB940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62BE-7FC6-4A4E-BD3D-88DA6A2D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3703-5811-44CF-8590-24BBC944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2DC9-EC22-4D47-87AB-76AC2E40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C3CC-C68C-4A46-BCCC-682682A2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7CC8-7B79-4081-84EA-0E092ED7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E99C-45AD-4014-8050-D5044342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981B-3DD8-4FD6-8C66-BCB1DBD1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B072F-03B5-48FC-8FCF-90F783D3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594D-94AE-4793-929B-41F38C41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B7820-F30D-4238-8911-12569B65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A65E-A34E-4F58-813B-1C0130A6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7892-7D21-4595-B02C-AB5A742662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C4C7-DB8C-4906-A51A-E157E4DA7B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Napole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6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cial re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away from social reforms of r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peace with th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lasses supported him, émigrés returned, peasants retained land, middle class benefited from the goo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 given to all based on talent and intel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oleonic Code: uniform set of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lty until inno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lose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of speech and press lim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4-1812 years of military campa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k great risks and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d rapid movements and effective use of large ar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new plans of attack for each battle, none of his enemies knew what to ex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ed those for efforts, men loved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Europe Redra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nnexed Netherlands, Belgium, parts of Italy, Germany,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bolished the H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ut Prussian territory in half and created the Grand Duchy of 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d brothers and family in charge of terr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d alliance with other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oosted nationalism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ed to conquer 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ed to do so, he was beaten at the Battle of Trafalgar by Admiral Nel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ould not attack by land so he attacked their trade, set up Continental System, closed all ports to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ental System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quered Europe hated the liberal system set 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ationalism works against him, other countries saw him as an oppressor, Continental system creates scarcity of goods and raises their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m in other countries helped to unite them to destroy French and others help rebe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pain and Austria battle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resisted invaders ,use guerrilla warfare, English send troops to hel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st mis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ded Russia with 600,000 soldiers and 50,000 horses, thought to be quick vi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ns avoid battles run toward east burning everything in its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army begin to get hungry with no food, Napoleon forced to retreat, during retreat, Russians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,000 surv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ies defeat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, Russia, Austria and Prussia create an unstoppable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ance forces Napoleon to abdicate and be exiled to El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revenge of nobles, restoration of king, and economic depression people called for his return, he answered and escaped El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l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battle between two great ge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oleon vs. Well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ay long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xiled to St Helena where he dies of stomach canc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ess of Vien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eting of diplomats and heads of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do about map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 of Conference was Prince Klemens von Mettern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for 10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goal was to maintain peace by establishing balance of power and restore monarc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t of Europe created to have countries meet to discuss peace, lasted until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33624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78040" y="762120"/>
            <a:ext cx="3787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poleon Comes to power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in Cor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ne yrs. Old went to milit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0yr he was eager to make a name for him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avored the Jacobins and republican gov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a large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ctories and Trium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a sharp mind and head for strategy Napoleon quickly rose through the r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successful in defeating the British at Toulon, the Austrians in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ed an expedition in Egypt, hoping to get to India, not successful, he found instead valuable Rosetta 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kept loss a secret from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e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99 Napoleon becomes a political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elp to overthrow the weak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reated the three man consul, which he was a member, he will become a member for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rose to power with political connections of his wife, Josep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yrs later he crowns himself empe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68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ach level of power he acquired Napoleon held a plebiscite vote( all m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ach vote the French supported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till held all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oleons Re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conom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prices, encouraged new industry, built up the infra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public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9:43:18Z</dcterms:created>
  <dc:creator>shoyer</dc:creator>
  <dc:description/>
  <dc:language>en-US</dc:language>
  <cp:lastModifiedBy>shoyer</cp:lastModifiedBy>
  <dcterms:modified xsi:type="dcterms:W3CDTF">2009-12-14T13:54:05Z</dcterms:modified>
  <cp:revision>8</cp:revision>
  <dc:subject/>
  <dc:title>Napoleon</dc:title>
</cp:coreProperties>
</file>